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C4F-8EE0-4E3F-A9DC-A1359513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525-2592-4472-8732-F0B4BDCB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68B-0B6B-4FE7-B30E-C5A65EF7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6A9-9A2E-4CB4-A53B-9A55F5B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F408-4955-464A-BAB3-88A202D7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02A-8113-4AD9-8DA8-8D21384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BAF8-268B-4A48-982D-333A33B5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A8C9-AF5E-4249-BF38-3BE5A436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BA57-0872-4704-A9F8-5F29521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C9A-C804-4A6F-BE69-B3599E61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DD28-1D69-4DE2-B89A-6867509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095-7E2C-4265-818E-258541D5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122-3CA6-4F64-AF5D-69FCD5F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B5E3-F3BD-4BF1-867A-67CA938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C06A-BF89-4494-BD34-11D0726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5D5B-EE95-41F2-936E-7CDF9D9D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0C0-9C76-4AC3-B9E3-5AC83D7F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567-4607-4803-98AF-F35C3C6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F37-9B04-4DE2-921E-7E506DF3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DB7-20C4-4445-929A-5D9E7434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24C-F432-4BE9-8CFA-94AF107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DC1-8E77-442E-8631-1B25623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6D4-CB8E-47E1-BE32-035C089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E5B-D3EE-4E79-9FF4-F0D6EB55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53F-7023-484D-831B-19C9BF84B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812-2191-4D09-A3C5-F05A3166E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../../LHM%20MKTG%207e/Supp%20-%20MKTR/Cover.ppt" TargetMode="Externa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43.xml"/><Relationship Id="rId12" Type="http://schemas.openxmlformats.org/officeDocument/2006/relationships/slide" Target="slide44.xml"/><Relationship Id="rId13" Type="http://schemas.openxmlformats.org/officeDocument/2006/relationships/slide" Target="slide45.xml"/><Relationship Id="rId14" Type="http://schemas.openxmlformats.org/officeDocument/2006/relationships/slide" Target="slide46.xm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9760" y="2286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lcom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80" y="3174840"/>
            <a:ext cx="7895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fo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10th Ed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Lamb, Hair and Mc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th-Western/Cengage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hapter 3 – Ethics and Social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040" y="535932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eated by John T. Drea, Western Illinois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3048120" y="5943600"/>
            <a:ext cx="3581280" cy="685800"/>
          </a:xfrm>
          <a:custGeom>
            <a:avLst/>
            <a:gdLst>
              <a:gd name="textAreaLeft" fmla="*/ 147600 w 3581280"/>
              <a:gd name="textAreaRight" fmla="*/ 3433680 w 3581280"/>
              <a:gd name="textAreaTop" fmla="*/ 147600 h 685800"/>
              <a:gd name="textAreaBottom" fmla="*/ 538200 h 685800"/>
            </a:gdLst>
            <a:ahLst/>
            <a:rect l="textAreaLeft" t="textAreaTop" r="textAreaRight" b="textAreaBottom"/>
            <a:pathLst>
              <a:path w="112748" h="21600">
                <a:moveTo>
                  <a:pt x="0" y="0"/>
                </a:moveTo>
                <a:lnTo>
                  <a:pt x="112748" y="0"/>
                </a:lnTo>
                <a:lnTo>
                  <a:pt x="112748" y="21600"/>
                </a:lnTo>
                <a:lnTo>
                  <a:pt x="0" y="21600"/>
                </a:lnTo>
                <a:close/>
              </a:path>
              <a:path fill="lightenLess" w="112748" h="21600">
                <a:moveTo>
                  <a:pt x="0" y="0"/>
                </a:moveTo>
                <a:lnTo>
                  <a:pt x="112748" y="0"/>
                </a:lnTo>
                <a:lnTo>
                  <a:pt x="108099" y="4650"/>
                </a:lnTo>
                <a:lnTo>
                  <a:pt x="4650" y="4650"/>
                </a:lnTo>
                <a:close/>
              </a:path>
              <a:path fill="darken" w="112748" h="21600">
                <a:moveTo>
                  <a:pt x="112748" y="0"/>
                </a:moveTo>
                <a:lnTo>
                  <a:pt x="112748" y="21600"/>
                </a:lnTo>
                <a:lnTo>
                  <a:pt x="108099" y="16950"/>
                </a:lnTo>
                <a:lnTo>
                  <a:pt x="108099" y="4650"/>
                </a:lnTo>
                <a:close/>
              </a:path>
              <a:path fill="darkenLess" w="112748" h="21600">
                <a:moveTo>
                  <a:pt x="112748" y="21600"/>
                </a:moveTo>
                <a:lnTo>
                  <a:pt x="0" y="21600"/>
                </a:lnTo>
                <a:lnTo>
                  <a:pt x="4650" y="16950"/>
                </a:lnTo>
                <a:lnTo>
                  <a:pt x="108099" y="16950"/>
                </a:lnTo>
                <a:close/>
              </a:path>
              <a:path fill="lighten" w="112748" h="21600">
                <a:moveTo>
                  <a:pt x="0" y="21600"/>
                </a:moveTo>
                <a:lnTo>
                  <a:pt x="0" y="0"/>
                </a:lnTo>
                <a:lnTo>
                  <a:pt x="4650" y="4650"/>
                </a:lnTo>
                <a:lnTo>
                  <a:pt x="4650" y="1695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here to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066680"/>
            <a:ext cx="8153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Wants to Be a Marketer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level of morality at which people are more concerned with how they’d judge themselves in the long r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conventional mor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Agreement among peers; one of the factors that influences ethical decision ma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cial consens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Setting a good example, keeping promises and commitments, and supporting others’ adherence to ethics stand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thics-related actions with greatest imp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reating a detailed code of ethics is an empty exercise without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p management suppo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theory in corporate social responsibility; the idea that business that practice social responsibility will outperform their pe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keholder that expects good citizenship from a cor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ocal commun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stakeholders whose jobs and incomes are affected by the social responsibility of the fi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mployees and manage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66680" y="83808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pen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2664360" y="3809880"/>
            <a:ext cx="468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how much of your to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ant to wager, then click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3048120" y="5205240"/>
            <a:ext cx="3733560" cy="1652760"/>
          </a:xfrm>
          <a:custGeom>
            <a:avLst/>
            <a:gdLst>
              <a:gd name="textAreaLeft" fmla="*/ 172800 w 3733560"/>
              <a:gd name="textAreaRight" fmla="*/ 3560760 w 3733560"/>
              <a:gd name="textAreaTop" fmla="*/ 172800 h 1652760"/>
              <a:gd name="textAreaBottom" fmla="*/ 1479960 h 1652760"/>
            </a:gdLst>
            <a:ahLst/>
            <a:rect l="textAreaLeft" t="textAreaTop" r="textAreaRight" b="textAreaBottom"/>
            <a:pathLst>
              <a:path w="48788" h="21600">
                <a:moveTo>
                  <a:pt x="0" y="0"/>
                </a:moveTo>
                <a:lnTo>
                  <a:pt x="48788" y="0"/>
                </a:lnTo>
                <a:lnTo>
                  <a:pt x="48788" y="21600"/>
                </a:lnTo>
                <a:lnTo>
                  <a:pt x="0" y="21600"/>
                </a:lnTo>
                <a:close/>
              </a:path>
              <a:path fill="lightenLess" w="48788" h="21600">
                <a:moveTo>
                  <a:pt x="0" y="0"/>
                </a:moveTo>
                <a:lnTo>
                  <a:pt x="48788" y="0"/>
                </a:lnTo>
                <a:lnTo>
                  <a:pt x="46526" y="2262"/>
                </a:lnTo>
                <a:lnTo>
                  <a:pt x="2262" y="2262"/>
                </a:lnTo>
                <a:close/>
              </a:path>
              <a:path fill="darken" w="48788" h="21600">
                <a:moveTo>
                  <a:pt x="48788" y="0"/>
                </a:moveTo>
                <a:lnTo>
                  <a:pt x="48788" y="21600"/>
                </a:lnTo>
                <a:lnTo>
                  <a:pt x="46526" y="19338"/>
                </a:lnTo>
                <a:lnTo>
                  <a:pt x="46526" y="2262"/>
                </a:lnTo>
                <a:close/>
              </a:path>
              <a:path fill="darkenLess" w="48788" h="21600">
                <a:moveTo>
                  <a:pt x="48788" y="21600"/>
                </a:moveTo>
                <a:lnTo>
                  <a:pt x="0" y="21600"/>
                </a:lnTo>
                <a:lnTo>
                  <a:pt x="2262" y="19338"/>
                </a:lnTo>
                <a:lnTo>
                  <a:pt x="46526" y="19338"/>
                </a:lnTo>
                <a:close/>
              </a:path>
              <a:path fill="lighten" w="48788" h="21600">
                <a:moveTo>
                  <a:pt x="0" y="21600"/>
                </a:moveTo>
                <a:lnTo>
                  <a:pt x="0" y="0"/>
                </a:lnTo>
                <a:lnTo>
                  <a:pt x="2262" y="2262"/>
                </a:lnTo>
                <a:lnTo>
                  <a:pt x="2262" y="1933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halle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ociety’s Welfare - Open Challeng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component of corporate social responsibility that must be achieved or render the other components m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conomic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ety’s codification of right and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600" y="198108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560" y="1981080"/>
            <a:ext cx="120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dd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144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6560" y="19558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9200" y="198108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153280" y="0"/>
            <a:ext cx="990720" cy="990720"/>
          </a:xfrm>
          <a:custGeom>
            <a:avLst/>
            <a:gdLst>
              <a:gd name="textAreaLeft" fmla="*/ 137520 w 990720"/>
              <a:gd name="textAreaRight" fmla="*/ 853200 w 990720"/>
              <a:gd name="textAreaTop" fmla="*/ 137520 h 990720"/>
              <a:gd name="textAreaBottom" fmla="*/ 853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00" y="3000"/>
                </a:lnTo>
                <a:lnTo>
                  <a:pt x="3000" y="30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00" y="18600"/>
                </a:lnTo>
                <a:lnTo>
                  <a:pt x="18600" y="30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000" y="18600"/>
                </a:lnTo>
                <a:lnTo>
                  <a:pt x="18600" y="18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000" y="3000"/>
                </a:lnTo>
                <a:lnTo>
                  <a:pt x="3000" y="18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5040" y="64008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on a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int 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elect a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swer/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9040" y="1981080"/>
            <a:ext cx="14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eling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6858000" y="0"/>
            <a:ext cx="1143000" cy="990720"/>
          </a:xfrm>
          <a:custGeom>
            <a:avLst/>
            <a:gdLst>
              <a:gd name="textAreaLeft" fmla="*/ 141120 w 1143000"/>
              <a:gd name="textAreaRight" fmla="*/ 1001880 w 1143000"/>
              <a:gd name="textAreaTop" fmla="*/ 141120 h 990720"/>
              <a:gd name="textAreaBottom" fmla="*/ 84960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1839" y="3080"/>
                </a:lnTo>
                <a:lnTo>
                  <a:pt x="3080" y="308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1839" y="18520"/>
                </a:lnTo>
                <a:lnTo>
                  <a:pt x="21839" y="308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3080" y="18520"/>
                </a:lnTo>
                <a:lnTo>
                  <a:pt x="21839" y="1852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3080" y="3080"/>
                </a:lnTo>
                <a:lnTo>
                  <a:pt x="3080" y="1852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0" y="1066680"/>
            <a:ext cx="2286000" cy="762120"/>
          </a:xfrm>
          <a:custGeom>
            <a:avLst/>
            <a:gdLst>
              <a:gd name="textAreaLeft" fmla="*/ 138960 w 2286000"/>
              <a:gd name="textAreaRight" fmla="*/ 2147040 w 2286000"/>
              <a:gd name="textAreaTop" fmla="*/ 138960 h 762120"/>
              <a:gd name="textAreaBottom" fmla="*/ 62316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0832" y="3938"/>
                </a:lnTo>
                <a:lnTo>
                  <a:pt x="3938" y="3938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0832" y="17662"/>
                </a:lnTo>
                <a:lnTo>
                  <a:pt x="60832" y="3938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60832" y="17662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inal Challenge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o Wants to Be a Marketer?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ound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280" y="8380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hapter 3 – Ethics and Social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905120"/>
            <a:ext cx="60958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120" y="271764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800" y="26668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0280" y="26668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6920" y="271764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2040" y="26416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1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rm used in the chapter to describe the factors that binds society toge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cial gl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2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d by governments and enforced by governmental autho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3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When informed and engaged, can mold corporate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 active civil socie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4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irm that follows standards that are not enforced by law is practicing thi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lf regul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5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escription for acceptable and desired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 code of condu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Do not believe in absolute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 relativi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ice, humor, heroism, and autonomy all belong to this set of stand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tandards for Being Virtuou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o prohibit illegal business dealings, the U.S. government passed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reign Corrupt Practices A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at global competitors might not practice social respons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 argument against social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such as “How is it structured? and “Who does it benefit?” should be asked before participating in what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use-related marketing progr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ops!  You’ve clicked on an area other than a point value or button. Please click below to return to the main answer boar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1828800" y="5334120"/>
            <a:ext cx="5410080" cy="1042920"/>
          </a:xfrm>
          <a:custGeom>
            <a:avLst/>
            <a:gdLst>
              <a:gd name="textAreaLeft" fmla="*/ 260640 w 5410080"/>
              <a:gd name="textAreaRight" fmla="*/ 5149440 w 541008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112017" h="21600">
                <a:moveTo>
                  <a:pt x="0" y="0"/>
                </a:moveTo>
                <a:lnTo>
                  <a:pt x="112017" y="0"/>
                </a:lnTo>
                <a:lnTo>
                  <a:pt x="112017" y="21600"/>
                </a:lnTo>
                <a:lnTo>
                  <a:pt x="0" y="21600"/>
                </a:lnTo>
                <a:close/>
              </a:path>
              <a:path fill="lightenLess" w="112017" h="21600">
                <a:moveTo>
                  <a:pt x="0" y="0"/>
                </a:moveTo>
                <a:lnTo>
                  <a:pt x="112017" y="0"/>
                </a:lnTo>
                <a:lnTo>
                  <a:pt x="106618" y="5400"/>
                </a:lnTo>
                <a:lnTo>
                  <a:pt x="5400" y="5400"/>
                </a:lnTo>
                <a:close/>
              </a:path>
              <a:path fill="darken" w="112017" h="21600">
                <a:moveTo>
                  <a:pt x="112017" y="0"/>
                </a:moveTo>
                <a:lnTo>
                  <a:pt x="112017" y="21600"/>
                </a:lnTo>
                <a:lnTo>
                  <a:pt x="106618" y="16200"/>
                </a:lnTo>
                <a:lnTo>
                  <a:pt x="106618" y="5400"/>
                </a:lnTo>
                <a:close/>
              </a:path>
              <a:path fill="darkenLess" w="112017" h="21600">
                <a:moveTo>
                  <a:pt x="1120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6618" y="16200"/>
                </a:lnTo>
                <a:close/>
              </a:path>
              <a:path fill="lighten" w="1120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Return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19810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mograph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36720" y="1905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7160" y="213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8680" y="198108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t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7320" y="1981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990720"/>
            <a:ext cx="1752480" cy="838080"/>
          </a:xfrm>
          <a:custGeom>
            <a:avLst/>
            <a:gdLst>
              <a:gd name="textAreaLeft" fmla="*/ 148320 w 1752480"/>
              <a:gd name="textAreaRight" fmla="*/ 1604160 w 1752480"/>
              <a:gd name="textAreaTop" fmla="*/ 148320 h 838080"/>
              <a:gd name="textAreaBottom" fmla="*/ 68976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1332" y="3825"/>
                </a:lnTo>
                <a:lnTo>
                  <a:pt x="3825" y="3825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1332" y="17775"/>
                </a:lnTo>
                <a:lnTo>
                  <a:pt x="41332" y="3825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41332" y="17775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Challenge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2400" y="638964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on a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int 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elect a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swer/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o Wants to Be a Marketer?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ound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40" y="73332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hapter 3 – Ethics and Social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60962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000" y="274320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11480" y="274320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7880" y="281952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00400" y="279396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3240" y="279396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0"/>
            <a:ext cx="1752480" cy="838080"/>
          </a:xfrm>
          <a:custGeom>
            <a:avLst/>
            <a:gdLst>
              <a:gd name="textAreaLeft" fmla="*/ 119520 w 1752480"/>
              <a:gd name="textAreaRight" fmla="*/ 1632960 w 1752480"/>
              <a:gd name="textAreaTop" fmla="*/ 119520 h 838080"/>
              <a:gd name="textAreaBottom" fmla="*/ 71856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2077" y="3080"/>
                </a:lnTo>
                <a:lnTo>
                  <a:pt x="3080" y="308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2077" y="18520"/>
                </a:lnTo>
                <a:lnTo>
                  <a:pt x="42077" y="308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3080" y="18520"/>
                </a:lnTo>
                <a:lnTo>
                  <a:pt x="42077" y="1852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3080" y="3080"/>
                </a:lnTo>
                <a:lnTo>
                  <a:pt x="3080" y="1852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ano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0000" y="198108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s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ops!  You’ve clicked on an area other than a point value or button. Please click below to return to the main answer boar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1828800" y="5334120"/>
            <a:ext cx="5410080" cy="1042920"/>
          </a:xfrm>
          <a:custGeom>
            <a:avLst/>
            <a:gdLst>
              <a:gd name="textAreaLeft" fmla="*/ 260640 w 5410080"/>
              <a:gd name="textAreaRight" fmla="*/ 5149440 w 541008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112017" h="21600">
                <a:moveTo>
                  <a:pt x="0" y="0"/>
                </a:moveTo>
                <a:lnTo>
                  <a:pt x="112017" y="0"/>
                </a:lnTo>
                <a:lnTo>
                  <a:pt x="112017" y="21600"/>
                </a:lnTo>
                <a:lnTo>
                  <a:pt x="0" y="21600"/>
                </a:lnTo>
                <a:close/>
              </a:path>
              <a:path fill="lightenLess" w="112017" h="21600">
                <a:moveTo>
                  <a:pt x="0" y="0"/>
                </a:moveTo>
                <a:lnTo>
                  <a:pt x="112017" y="0"/>
                </a:lnTo>
                <a:lnTo>
                  <a:pt x="106618" y="5400"/>
                </a:lnTo>
                <a:lnTo>
                  <a:pt x="5400" y="5400"/>
                </a:lnTo>
                <a:close/>
              </a:path>
              <a:path fill="darken" w="112017" h="21600">
                <a:moveTo>
                  <a:pt x="112017" y="0"/>
                </a:moveTo>
                <a:lnTo>
                  <a:pt x="112017" y="21600"/>
                </a:lnTo>
                <a:lnTo>
                  <a:pt x="106618" y="16200"/>
                </a:lnTo>
                <a:lnTo>
                  <a:pt x="106618" y="5400"/>
                </a:lnTo>
                <a:close/>
              </a:path>
              <a:path fill="darkenLess" w="112017" h="21600">
                <a:moveTo>
                  <a:pt x="1120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6618" y="16200"/>
                </a:lnTo>
                <a:close/>
              </a:path>
              <a:path fill="lighten" w="1120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Return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tion for which technology is ubiquito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Generation 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Generation X, Generation Y, and Baby Boomers, the one that is the largest in total nu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aby Boom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that is outsourcing the tasks of daily life and that spends 78% more on personal serv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eneration 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As of today, this group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rgest ethnic minority gro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ispan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ricans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12.5% of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most diverse county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n Francisc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un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rtion of the U.S. population constituted by minor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1/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primary determinant of a person’s earning potent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 For a company which targets US consumer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tween the ages 36-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t is the expected direction in the size of the target market during the next decade (i.e, either increasing in size or decreasing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mers move out of this ag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and Gen-X moves 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guideline to help marketing managers make better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de of ethic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Where the largest percentage of Americans who move 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ithin their hom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un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ethnic group whose spending power has increased the most percentage points since 199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ispan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ricans (increase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15%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890, it was the first major piece of antitrust legislation.  This act made trusts and conspiracies in restraint of trade illeg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herma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36, this act prohib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ice discrimin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harging different prices to different buyers of products that are of similar grade and quality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binson-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tma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38 as an amendment to the Federal Trade Commission Act, this legislation broadened the powers of the FTC and prohibited false and deceptive adverti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eeler-Le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nd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Passed in 1914, one of the practices made illegal by this act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ying agreem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requiring the buyers of one product to also buy another product in the li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ayto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46, this act establishes protection for tradema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nham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1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DuPont has changed its marketing strategy to being a good corporate citizen, or fulfilling this level of social responsibil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hilanthrop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2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is generation controls and influences approximately $1.8 trillion per year around the world through their own pocket money and their unprecedented influence on their parents’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wee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3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onstrained career opportunities for young Japanese women is a result of this factor in extern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conom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ral principles or val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generally govern the conduct of an individual or group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4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ompanies use various strategies to instill this in their employees, including using games to practice ethical decision ma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usiness 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680" y="83808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pen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2664360" y="3809880"/>
            <a:ext cx="468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how much of your to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ant to wager, then click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3048120" y="4952880"/>
            <a:ext cx="3733560" cy="1652760"/>
          </a:xfrm>
          <a:custGeom>
            <a:avLst/>
            <a:gdLst>
              <a:gd name="textAreaLeft" fmla="*/ 179280 w 3733560"/>
              <a:gd name="textAreaRight" fmla="*/ 3554280 w 3733560"/>
              <a:gd name="textAreaTop" fmla="*/ 179280 h 1652760"/>
              <a:gd name="textAreaBottom" fmla="*/ 1473480 h 1652760"/>
            </a:gdLst>
            <a:ahLst/>
            <a:rect l="textAreaLeft" t="textAreaTop" r="textAreaRight" b="textAreaBottom"/>
            <a:pathLst>
              <a:path w="48788" h="21600">
                <a:moveTo>
                  <a:pt x="0" y="0"/>
                </a:moveTo>
                <a:lnTo>
                  <a:pt x="48788" y="0"/>
                </a:lnTo>
                <a:lnTo>
                  <a:pt x="48788" y="21600"/>
                </a:lnTo>
                <a:lnTo>
                  <a:pt x="0" y="21600"/>
                </a:lnTo>
                <a:close/>
              </a:path>
              <a:path fill="lightenLess" w="48788" h="21600">
                <a:moveTo>
                  <a:pt x="0" y="0"/>
                </a:moveTo>
                <a:lnTo>
                  <a:pt x="48788" y="0"/>
                </a:lnTo>
                <a:lnTo>
                  <a:pt x="46443" y="2345"/>
                </a:lnTo>
                <a:lnTo>
                  <a:pt x="2345" y="2345"/>
                </a:lnTo>
                <a:close/>
              </a:path>
              <a:path fill="darken" w="48788" h="21600">
                <a:moveTo>
                  <a:pt x="48788" y="0"/>
                </a:moveTo>
                <a:lnTo>
                  <a:pt x="48788" y="21600"/>
                </a:lnTo>
                <a:lnTo>
                  <a:pt x="46443" y="19255"/>
                </a:lnTo>
                <a:lnTo>
                  <a:pt x="46443" y="2345"/>
                </a:lnTo>
                <a:close/>
              </a:path>
              <a:path fill="darkenLess" w="48788" h="21600">
                <a:moveTo>
                  <a:pt x="48788" y="21600"/>
                </a:moveTo>
                <a:lnTo>
                  <a:pt x="0" y="21600"/>
                </a:lnTo>
                <a:lnTo>
                  <a:pt x="2345" y="19255"/>
                </a:lnTo>
                <a:lnTo>
                  <a:pt x="46443" y="19255"/>
                </a:lnTo>
                <a:close/>
              </a:path>
              <a:path fill="lighten" w="48788" h="21600">
                <a:moveTo>
                  <a:pt x="0" y="21600"/>
                </a:moveTo>
                <a:lnTo>
                  <a:pt x="0" y="0"/>
                </a:lnTo>
                <a:lnTo>
                  <a:pt x="2345" y="2345"/>
                </a:lnTo>
                <a:lnTo>
                  <a:pt x="2345" y="1925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halle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tpourri - Open Challeng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Entrepreneurship Case, the highest level of social responsibility attained by Rockstar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gal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refers to the rules people develop as a result of cultural values and norms.  They are the foundation of ethical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the most basic level of ethics.  It is calculating, self-centered, and even selfish, based on what will be immediately punished or rewar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econventional mor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a written set of guidelines developed by an organization to assist employees in making ethical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de of 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vel of ethical develop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be associated with the following statement from a marketer: “Yes, I know the action is legal and will help us build market share.  But is it right in the long run?  Will it do more good than harm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conven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Outperforming the market by viewing solving the world’s social problems as an opportunity to build profit and help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staina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905120" y="1143000"/>
            <a:ext cx="5410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" name=""/>
          <p:cNvSpPr/>
          <p:nvPr/>
        </p:nvSpPr>
        <p:spPr>
          <a:xfrm>
            <a:off x="2976120" y="30492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now, it’s tim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1040" y="3733920"/>
            <a:ext cx="589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two pieces of pap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one piece, write your team’s wa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the other piece of paper to writ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” for the final challenge “answ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1371600" y="5791320"/>
            <a:ext cx="6781680" cy="609480"/>
          </a:xfrm>
          <a:custGeom>
            <a:avLst/>
            <a:gdLst>
              <a:gd name="textAreaLeft" fmla="*/ 107640 w 6781680"/>
              <a:gd name="textAreaRight" fmla="*/ 6674040 w 6781680"/>
              <a:gd name="textAreaTop" fmla="*/ 107640 h 609480"/>
              <a:gd name="textAreaBottom" fmla="*/ 501840 h 609480"/>
            </a:gdLst>
            <a:ahLst/>
            <a:rect l="textAreaLeft" t="textAreaTop" r="textAreaRight" b="textAreaBottom"/>
            <a:pathLst>
              <a:path w="240214" h="21600">
                <a:moveTo>
                  <a:pt x="0" y="0"/>
                </a:moveTo>
                <a:lnTo>
                  <a:pt x="240214" y="0"/>
                </a:lnTo>
                <a:lnTo>
                  <a:pt x="240214" y="21600"/>
                </a:lnTo>
                <a:lnTo>
                  <a:pt x="0" y="21600"/>
                </a:lnTo>
                <a:close/>
              </a:path>
              <a:path fill="lightenLess" w="240214" h="21600">
                <a:moveTo>
                  <a:pt x="0" y="0"/>
                </a:moveTo>
                <a:lnTo>
                  <a:pt x="240214" y="0"/>
                </a:lnTo>
                <a:lnTo>
                  <a:pt x="236389" y="3825"/>
                </a:lnTo>
                <a:lnTo>
                  <a:pt x="3825" y="3825"/>
                </a:lnTo>
                <a:close/>
              </a:path>
              <a:path fill="darken" w="240214" h="21600">
                <a:moveTo>
                  <a:pt x="240214" y="0"/>
                </a:moveTo>
                <a:lnTo>
                  <a:pt x="240214" y="21600"/>
                </a:lnTo>
                <a:lnTo>
                  <a:pt x="236389" y="17775"/>
                </a:lnTo>
                <a:lnTo>
                  <a:pt x="236389" y="3825"/>
                </a:lnTo>
                <a:close/>
              </a:path>
              <a:path fill="darkenLess" w="240214" h="21600">
                <a:moveTo>
                  <a:pt x="24021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236389" y="17775"/>
                </a:lnTo>
                <a:close/>
              </a:path>
              <a:path fill="lighten" w="24021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here for the Final Challenge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 Challeng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the correct order (from top to bottom) of the four levels i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yramid of corporate social responsi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nthrop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hic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ilanthrop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thic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gal responsibi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conomic responsibil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38080" y="6019920"/>
            <a:ext cx="7553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s for playing Who Wants to Be a Marketer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ules people develop as a result of cultural values and nor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thical theory that holds that when people are confronted with an ethical dilemma, they should adhere to their obligations and du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ontological theo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del that holds that a firm’s economic performance is the foundation of corporate respons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yramid of corporate social responsibi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the most basic level of ethical develo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econventional mor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6:27:51Z</dcterms:created>
  <dc:creator>John Drea</dc:creator>
  <dc:description/>
  <dc:language>en-US</dc:language>
  <cp:lastModifiedBy>Dana Freeman</cp:lastModifiedBy>
  <dcterms:modified xsi:type="dcterms:W3CDTF">2008-11-13T23:26:10Z</dcterms:modified>
  <cp:revision>31</cp:revision>
  <dc:subject/>
  <dc:title>No Slide Title</dc:title>
</cp:coreProperties>
</file>